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47A-8620-46D8-92BB-5B995A2C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844-93B3-4201-9DAB-B20A981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0AB-FD68-4B52-B54B-51F305BC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3A7-94BB-46B6-B4B9-245EDD2C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338-A8B0-40A7-BE7B-BCD917A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7F3-0F43-4DCC-BE44-D414D74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517-1916-4000-819F-8C5390B7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8CE-AF73-4455-B830-8D4BAA2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467-1685-45BC-84AE-594C81C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BEF-4A4A-46A6-8E0C-3AD82A6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FF3-C961-492F-B347-F53DFE9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505-81C6-4705-B67B-742C216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A6B-8C94-41DC-9973-1038D264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ane du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ianna j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ain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533520" y="685800"/>
            <a:ext cx="4190760" cy="289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Century Gothic"/>
              </a:rPr>
              <a:t>step-by-step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y-finding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cc00"/>
                </a:solidFill>
                <a:latin typeface="Century Gothic"/>
              </a:rPr>
              <a:t>Three modes of transport</a:t>
            </a:r>
            <a:r>
              <a:rPr b="0" i="1" lang="en-US" sz="2200" spc="-1" strike="noStrike">
                <a:solidFill>
                  <a:srgbClr val="000000"/>
                </a:solidFill>
                <a:latin typeface="Century Gothic"/>
              </a:rPr>
              <a:t> -- MARTA, on foot, &amp;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n Gene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 appropriate direction g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entury Gothic"/>
              </a:rPr>
              <a:t>If they DID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multi-ling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grap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onsistent or properly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in log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ot catered to user group (ie, cars are directed to front of hospital, not par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ystem of signs and ma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placement + ori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l modes of transpor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and from the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Out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5257800"/>
            <a:ext cx="16002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71500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867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105520"/>
            <a:ext cx="184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600" y="5105520"/>
            <a:ext cx="18432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89480" y="2895480"/>
            <a:ext cx="297504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1600200"/>
            <a:ext cx="27432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</a:rPr>
              <a:t>External Signage</a:t>
            </a:r>
            <a:r>
              <a:rPr b="0" lang="en-US" sz="1600" spc="-1" strike="noStrike">
                <a:solidFill>
                  <a:srgbClr val="009999"/>
                </a:solidFill>
                <a:latin typeface="Century Gothic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sis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Graph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ulti-ling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23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Problem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Current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use of landmarks: colored umbr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mall size makes it easier to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AJ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</a:rPr>
              <a:t>New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nection between old and new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ck of knowledge for return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</a:rPr>
              <a:t>Physical Interactiv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novative, fun, and interactive for all types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 main layers: colors + floor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0 corresponding buttons that, when pressed, light up pathways to each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44193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80880" y="228600"/>
            <a:ext cx="1981440" cy="1365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entury Gothic"/>
              </a:rPr>
              <a:t>Solutions -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724280"/>
            <a:ext cx="19051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</a:rPr>
              <a:t>Printable Walking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vide visitors with a takeaway reference (to and from dest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n be printed from intera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fered in both English and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3581280" cy="2833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24280" y="3483000"/>
            <a:ext cx="3429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0:15Z</dcterms:created>
  <dc:creator>Marianna Jewell</dc:creator>
  <dc:description/>
  <dc:language>en-US</dc:language>
  <cp:lastModifiedBy>Joel Linderman</cp:lastModifiedBy>
  <dcterms:modified xsi:type="dcterms:W3CDTF">2007-12-13T16:58:13Z</dcterms:modified>
  <cp:revision>12</cp:revision>
  <dc:subject/>
  <dc:title>Step-by-Step a way-finding design team</dc:title>
</cp:coreProperties>
</file>